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B06-8F7D-4CBB-93E5-CA23951C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5C8-8699-43CB-BDA7-120175CC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58A-DC79-4B69-9359-D784B754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59A-F4AF-4774-93F4-1D7109BE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34C-35B3-4920-ACC9-511218D8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21B5-18D1-4649-8E8F-CD0A6728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B4D3-A516-4635-AB9A-F4BD6AC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5BEA-1515-452C-8461-ADB8DA42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BBB-EDFB-4D63-98AC-F3BBE3C8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EA15-4AB2-4A5A-944B-8EB578F3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693D-6301-49C6-895A-766C361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D9F-F5E0-442E-83ED-59648642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B84D-2B88-4353-853C-8823B66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AC3-2FCF-41DD-B512-3B40B6E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16D-BA17-4900-A21C-F9DB6B3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2343-AB35-4C29-8888-626479F3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1D11-377A-46CD-8E6A-6249D8D7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A92-8B0F-4107-9A74-D4F8987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BA4-F8C7-40DA-BEC3-2CE80C11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31A-6F7C-42F7-91A1-324603F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366-C799-489D-A72B-0D390B27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0EF-4125-49F4-892E-8C67D88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50C-6013-4133-A6EE-A5F5E72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DD8-3898-4C6C-9F87-7FFD6F5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259-3911-4BC2-BD70-E505E7144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19EA-BDC9-4591-9ED2-E8AB4BDC5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rt%2016%20-%20CM.ppt" TargetMode="External"/><Relationship Id="rId2" Type="http://schemas.openxmlformats.org/officeDocument/2006/relationships/hyperlink" Target="file:///art%2015%20-%20CM.ppt" TargetMode="External"/><Relationship Id="rId3" Type="http://schemas.openxmlformats.org/officeDocument/2006/relationships/hyperlink" Target="file:///art%2022%20-%20CM.ppt" TargetMode="External"/><Relationship Id="rId4" Type="http://schemas.openxmlformats.org/officeDocument/2006/relationships/hyperlink" Target="file:///art%2022%20-%20CM.ppt" TargetMode="External"/><Relationship Id="rId5" Type="http://schemas.openxmlformats.org/officeDocument/2006/relationships/hyperlink" Target="file:///art%2022%20-%20CM.ppt" TargetMode="External"/><Relationship Id="rId6" Type="http://schemas.openxmlformats.org/officeDocument/2006/relationships/hyperlink" Target="file:///art%2022%20-%20CM.ppt" TargetMode="External"/><Relationship Id="rId7" Type="http://schemas.openxmlformats.org/officeDocument/2006/relationships/hyperlink" Target="file:///art%2022%20-%20CM.ppt" TargetMode="External"/><Relationship Id="rId8" Type="http://schemas.openxmlformats.org/officeDocument/2006/relationships/hyperlink" Target="file:///art%2022%20-%20CM.ppt" TargetMode="External"/><Relationship Id="rId9" Type="http://schemas.openxmlformats.org/officeDocument/2006/relationships/hyperlink" Target="file:///art%2022%20-%20CM.ppt" TargetMode="External"/><Relationship Id="rId10" Type="http://schemas.openxmlformats.org/officeDocument/2006/relationships/hyperlink" Target="file:///art%2022%20-%20CM.ppt" TargetMode="External"/><Relationship Id="rId11" Type="http://schemas.openxmlformats.org/officeDocument/2006/relationships/hyperlink" Target="file:///art%2022%20-%20CM.ppt" TargetMode="External"/><Relationship Id="rId12" Type="http://schemas.openxmlformats.org/officeDocument/2006/relationships/hyperlink" Target="file:///art%2022%20-%20CM.ppt" TargetMode="External"/><Relationship Id="rId13" Type="http://schemas.openxmlformats.org/officeDocument/2006/relationships/hyperlink" Target="file:///art%2022%20-%20CM.ppt" TargetMode="External"/><Relationship Id="rId14" Type="http://schemas.openxmlformats.org/officeDocument/2006/relationships/hyperlink" Target="file:///art%2030%20-%20CM.ppt" TargetMode="External"/><Relationship Id="rId15" Type="http://schemas.openxmlformats.org/officeDocument/2006/relationships/hyperlink" Target="file:///art%2023%20-%20CM.ppt" TargetMode="External"/><Relationship Id="rId16" Type="http://schemas.openxmlformats.org/officeDocument/2006/relationships/hyperlink" Target="file:///art%2030%20-%20CM.ppt" TargetMode="External"/><Relationship Id="rId17" Type="http://schemas.openxmlformats.org/officeDocument/2006/relationships/hyperlink" Target="file:///art%2023%20-%20CM.ppt" TargetMode="External"/><Relationship Id="rId18" Type="http://schemas.openxmlformats.org/officeDocument/2006/relationships/hyperlink" Target="file:///art%2023%20-%20CM.ppt" TargetMode="External"/><Relationship Id="rId19" Type="http://schemas.openxmlformats.org/officeDocument/2006/relationships/hyperlink" Target="file:///art%2023%20-%20CM.ppt" TargetMode="External"/><Relationship Id="rId20" Type="http://schemas.openxmlformats.org/officeDocument/2006/relationships/hyperlink" Target="file:///art%2030%20-%20CM.ppt" TargetMode="External"/><Relationship Id="rId21" Type="http://schemas.openxmlformats.org/officeDocument/2006/relationships/hyperlink" Target="file:///art%2031%20-%20CM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57600" y="533520"/>
            <a:ext cx="171468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RI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QUI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Art. 16,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447920"/>
            <a:ext cx="194292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O ALVARÁ PELO DIRETOR-GERAL DO DN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/>
              </a:rPr>
              <a:t>Art.15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1371600"/>
            <a:ext cx="285768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ZO DO ALVARÁ PODE SER DE ATÉ 03 ANOS PRORROGÁVEIS POR IGUAL PERÍO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/>
              </a:rPr>
              <a:t>Art. 22,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4"/>
              </a:rPr>
              <a:t> incis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5"/>
              </a:rPr>
              <a:t> III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971800"/>
            <a:ext cx="22860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DO RELATÓRIO FINAL DE PESQUI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6"/>
              </a:rPr>
              <a:t>Art. 22 ,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7"/>
              </a:rPr>
              <a:t> incis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8"/>
              </a:rPr>
              <a:t> V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9"/>
              </a:rPr>
              <a:t>Art. 22 § 2° (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0"/>
              </a:rPr>
              <a:t> guia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1"/>
              </a:rPr>
              <a:t> de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2"/>
              </a:rPr>
              <a:t> utilizaçã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3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371600"/>
            <a:ext cx="2590920" cy="102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E PELO DNPM PREENCHIDOS OS REQUISITOS LEGAIS O INTERESSADO OBTÉM O DIREITO DE PRIORID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2400" y="3048120"/>
            <a:ext cx="12193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 ARQUIV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4"/>
              </a:rPr>
              <a:t>Art. 30, I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971800"/>
            <a:ext cx="16002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NEGATIVO OU NÃO APROV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5"/>
              </a:rPr>
              <a:t>Art. 23, inciso II e 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6"/>
              </a:rPr>
              <a:t>Art. 30, 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125748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POSITI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7"/>
              </a:rPr>
              <a:t>Art. 23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8"/>
              </a:rPr>
              <a:t> inciso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9"/>
              </a:rPr>
              <a:t> I,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971800"/>
            <a:ext cx="1143000" cy="800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PM APROVA RELATÓR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0"/>
              </a:rPr>
              <a:t>Art. 30, § 3°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038480"/>
            <a:ext cx="33908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RIMENTO DE LAV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8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2400120" cy="102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RESA TEM UM ANO PARA REQUERER A LAVRA. PRAZO PRORROGÁVEL POR IGUAL PERÍO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1"/>
              </a:rPr>
              <a:t>Art. 31, 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638680"/>
            <a:ext cx="2857320" cy="102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 DO PRAZO SEM REQUERIMENTO DE CONCESSÃO. CADUCIDADE DO DIREITO DE REQUERER.  ÁREA EM DISPONIBILID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5638680"/>
            <a:ext cx="339084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RO DE MINAS E ENERGIA OUTORGA PORTARIA DE LAVRA POR PRAZO INDETERMIN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43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6° e 7°, Resolução CONAMA n° 009/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6 da Lei n° 7.805/89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648320"/>
            <a:ext cx="3429000" cy="799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PM ANALISA PLANO DE APROVEITAMENTO ECONÔMICO E PREPARA MINUTA DE PORT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9  C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IME DE AUTORIZAÇÃO E 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514600"/>
            <a:ext cx="0" cy="15228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19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0481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479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81280" y="42670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95280" y="838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838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4:23:23Z</dcterms:modified>
  <cp:revision>96</cp:revision>
  <dc:subject/>
  <dc:title>Apresentação do PowerPoint</dc:title>
</cp:coreProperties>
</file>